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71A-3F60-4AA4-A89B-16B9B8548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70E-79E0-45E4-9F1A-0C87C189CB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06A-F6F0-434B-BB03-D9769AE0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B41-5487-4D2C-9FB8-A924269A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50E-3026-435A-A4FD-F6C69664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809-40BD-4AF8-B6EC-2672E2F9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6A6E-A1BF-426B-8706-A131A8A6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FF10-E5FB-4CCC-8034-005385A2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B51-73D6-48F2-B0AA-147F53FB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36AC-3340-40B7-85E2-97FB24C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40BE-A383-46AE-AED6-254AEBA4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A76-F11D-461B-BE1A-36D1751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915B-ABD5-4B6C-A84C-BFCD39B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FD3-2DA8-4A88-A345-E4FFD7F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7A2A-2127-4F6B-8FC2-3A2FEDF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04A-EDFF-43F5-BA87-7C1A6D9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9AA5-8806-4A34-AA50-1B1C215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94EF-5E3F-402E-A6F2-36D1886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767-2353-48B2-8BF6-6408FD0F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BF58-3578-4535-A80F-71A28DB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5CE3-8DAA-461D-A87D-E5155F3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3D4B-66E5-42EC-85E9-01BE863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CD31-930F-4EEE-A1EA-CF3CF4FA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17C4-62A8-4C22-AAA5-F9CA9F1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600-DF5A-4458-AEBC-52EE02E5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BEAD-C230-4AAB-8529-D5C151F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0615-2F15-45DE-BC27-45E2DDB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D38D-68A7-4ABE-BECC-3C65BB5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8D9D-C1A5-4C99-B283-AE1F92D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F935-AE39-4396-8C65-A9586966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D01D-2757-4BE5-9725-2BD6BB3C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172D-750C-4A1A-96C8-50258BC5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A616-A2B9-44E4-8402-9A11924E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F24D-341C-4F9B-A0CB-9CF02217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79EE-DAB7-498F-A3E9-16AD4EA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E86-27A5-4089-9845-71CD8933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B2C2-590E-40D3-A559-E8B9D86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11EE-6B08-4471-AA72-EC16301F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362F-5ACB-48C4-902E-3D8EB0FB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0B6B-4723-4870-9509-797D9B7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D3FD-FD7C-4281-8D5E-B520553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97F51-6A1E-462F-82B2-165D427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325F-417A-4D53-B16D-3ADD7C4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B143-53FD-40FB-B2FA-794628FA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9EAD-5F22-4080-B0B6-3F96799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04F4-31AD-4DCF-AB54-7B51656D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F53-835F-413A-A4C8-76D7DE2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AFF8-6730-4478-8DE7-04E70219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7A46-16DB-4A98-AC47-9EB1860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8A42-FE8F-4EA0-8262-1E92262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2EE6-733B-4A88-8229-348018FF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01C7-B19A-4143-8C27-A5B2B8F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9542-C042-4355-A553-8DE7C25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A568-C417-4B42-AB0E-9529BAC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4B07-7636-4E78-8060-C1F168C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76E1-6A8A-439B-B74A-F50DA03D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4A7E-B6CC-4E92-95AD-DAF66349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CEF-8141-4BBC-ACF8-CD559826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3F1C-79EA-407A-8D91-00BACE2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8AFB9-EE7B-4A18-B03F-D8FB4D80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BDBF-5BD7-4829-B458-AAC0D049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EBF4-9453-4AD0-B375-345EEBE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D852-14EB-4F8C-9F96-6425F46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1708-D4B7-4531-9B1C-D65E0F0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EDC3-CF73-46AA-8825-9275A73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B6F74-B966-423F-8A29-1064CFB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3B80-15D2-49B3-8D08-8AA84E9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F4A4-A6AE-46E6-9E6A-FF62CC54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733-D3BB-4AC9-9FA3-197E794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647F-069E-4783-ACEE-8220F2D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DC2E-01A0-4CE2-A4C4-73A36043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440D-C750-469E-8E7E-0D7FBC10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A3221-284F-4907-A6DE-39174E56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474A6-3313-4B99-8FA7-A2BEDE29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77DF-46A4-42E3-A26A-A5B770DC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1E5F-2035-49CC-B193-D2A4131B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1B3FA-022D-44E7-BF18-E9322EB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CA45-10F9-4E55-9587-BA0A6F4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52B1-2CD2-404E-849C-39FF43E0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8FE-D012-4F91-8911-A8AA550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E8257-3631-4729-91AA-EC37B54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813C-E2E1-4ADC-A483-03E5F544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B138-DF88-4EF1-91F0-8EF7C39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D7247-936C-4191-B15A-A43036D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10881-45BA-4B00-8622-93F79A8F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6F5-03FF-404D-AF88-431569F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77E-CE73-446F-A248-1014BC565CD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029-C3E8-4EB5-8BB2-0938A539250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B7AD-11CB-4F60-AE8A-990DC5EBF6C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9C7-3E6A-4BBF-A535-E2A6A4B634E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58A9-675B-4CE5-A8EC-9EB4A8F89C3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01BF-3EE9-4FE1-BA57-AD14C60832C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978D-000A-4814-80F7-B88998E755F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.cvsd.k12.pa.us/course/view.php?id=302" TargetMode="External"/><Relationship Id="rId2" Type="http://schemas.openxmlformats.org/officeDocument/2006/relationships/hyperlink" Target="http://podcasts.cvsd.k12.pa.us/weblog/tom_owsinski/" TargetMode="External"/><Relationship Id="rId3" Type="http://schemas.openxmlformats.org/officeDocument/2006/relationships/hyperlink" Target="https://spreadsheets.google.com/ccc?key=0AszEkmQ4sBKFdFhrbjF2a1UzTXpNZXFpdWt2WTRGNHc&amp;hl=en" TargetMode="External"/><Relationship Id="rId4" Type="http://schemas.openxmlformats.org/officeDocument/2006/relationships/hyperlink" Target="http://www.smartmusic.com/" TargetMode="External"/><Relationship Id="rId5" Type="http://schemas.openxmlformats.org/officeDocument/2006/relationships/hyperlink" Target="file:///../../All%20Users/Desktop/iTunes.ln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undzabound.com/" TargetMode="External"/><Relationship Id="rId2" Type="http://schemas.openxmlformats.org/officeDocument/2006/relationships/hyperlink" Target="http://www.partnersinrhyme.com/" TargetMode="External"/><Relationship Id="rId3" Type="http://schemas.openxmlformats.org/officeDocument/2006/relationships/hyperlink" Target="http://www.royaltyfreemusic.com/free.html" TargetMode="External"/><Relationship Id="rId4" Type="http://schemas.openxmlformats.org/officeDocument/2006/relationships/hyperlink" Target="http://www.harryfox.com/index.jsp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elkin.com/IWCatProductPage.process?Product_Id=277661" TargetMode="External"/><Relationship Id="rId2" Type="http://schemas.openxmlformats.org/officeDocument/2006/relationships/hyperlink" Target="http://www.belkin.com/IWCatProductPage.process?Product_Id=277661" TargetMode="External"/><Relationship Id="rId3" Type="http://schemas.openxmlformats.org/officeDocument/2006/relationships/hyperlink" Target="http://www.roland.com/products/en/R-09HR/index.html" TargetMode="External"/><Relationship Id="rId4" Type="http://schemas.openxmlformats.org/officeDocument/2006/relationships/hyperlink" Target="http://www.bluemic.com/consumeraudio/microphones.html" TargetMode="External"/><Relationship Id="rId5" Type="http://schemas.openxmlformats.org/officeDocument/2006/relationships/hyperlink" Target="http://www.zoom.co.jp/english/products/h2/" TargetMode="External"/><Relationship Id="rId6" Type="http://schemas.openxmlformats.org/officeDocument/2006/relationships/hyperlink" Target="http://www.zoom.co.jp/english/products/h2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help/faq?s=install&amp;item=lame-mp3" TargetMode="External"/><Relationship Id="rId3" Type="http://schemas.openxmlformats.org/officeDocument/2006/relationships/hyperlink" Target="http://www.digidesign.com/index.cfm?navid=507&amp;langid=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dcastalley.com/index.php" TargetMode="External"/><Relationship Id="rId2" Type="http://schemas.openxmlformats.org/officeDocument/2006/relationships/hyperlink" Target="http://epnweb.or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actical Consideratio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Middle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Elementary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seful Websi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sbandirecto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amstudio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icalmusiccity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Firth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-Ea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Woodwind Fingering Gu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ronome 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 and Answ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_owsinski@cvsd.k12.pa.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97-1294 x16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the CVMS band progra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do I use technology in the band roo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hance student lear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et them where they l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tiv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ech Tool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Mood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odcas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Smartmus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Ipod/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martphone Ap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 Conside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rpo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acher or Student designe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oundzabou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artners in Rhym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Royalty Free Music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arryFox.c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– mechanical righ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reating A Podcast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a pl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scrip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plo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r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Ipod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mart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Edirol R-09H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Blue USB 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Zoom  H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_x000b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udacit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Lam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rageb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Pro Too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s as a Resource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odcast Alle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Educational Podcast Networ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ractice tool (Band, Orchestra, Choru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thod Book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and, orchestra and chorus arrangemen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stom fi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und edi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eractive grade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4:49Z</dcterms:created>
  <dc:creator>tom_owsinski</dc:creator>
  <dc:description/>
  <dc:language>en-US</dc:language>
  <cp:lastModifiedBy>tom_owsinski</cp:lastModifiedBy>
  <dcterms:modified xsi:type="dcterms:W3CDTF">2009-11-17T04:08:47Z</dcterms:modified>
  <cp:revision>46</cp:revision>
  <dc:subject/>
  <dc:title>Technology from the Middle School Band Room</dc:title>
</cp:coreProperties>
</file>